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vi-V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vi-V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3C98D-0342-4DE6-A0BA-847F92C26DDE}" type="slidenum">
              <a:rPr b="0" lang="vi-V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vi-V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2905E-D8D2-4636-ACEB-5C9C1AA4DDCA}" type="slidenum">
              <a:rPr b="0" lang="vi-V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vi-V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E6805-DA6B-482E-BD65-6FF2AF25F6FB}" type="slidenum">
              <a:rPr b="0" lang="vi-V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jhkugyfuyghjbjmbkjkh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859A5-513A-4A3A-A79F-B77F336A3EA6}" type="slidenum">
              <a:rPr b="0" lang="vi-V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vi-V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2CD5B-0C04-4907-BFD6-24C297B0480D}" type="slidenum">
              <a:rPr b="0" lang="vi-V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DFAD-81FB-436B-86E7-AA27C5498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1997-76E7-40EF-843B-DAFE3896B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B377-6292-407B-890D-46102BC20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B5B3-B697-43FA-97B3-E4451D3A9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9112C-6525-4CB4-8ED4-C69F31244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8AA36-DB5A-47C0-BB1D-5B6FFC48D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0B0B0-9C36-43C2-BB77-1E873398C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2D25B-9860-42E4-B947-F48CBA3F6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625D7-A494-4A9C-9655-048E5E0B1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19C64-8F94-422C-AE22-435C4B6D0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217D2-AC4B-42B7-A4FA-A766DE8C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317E-F3CF-4702-AF20-CC1AD9CA3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4890E-7279-41B3-B053-B74666A5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CB82F-6FD7-47B6-AE47-F5A44D55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6D3BC-5AE4-4B65-BBD0-A9BD3D3CE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30014-4B9A-483A-BD98-3F827EF5C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BD077-DEFB-4F4D-B00E-7369CBE85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BDB611-1F82-4538-AE51-DE316FA78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6895BF-D52B-40C0-AAE7-AFF5AEA3C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7D1B7E-6089-4A9B-989C-1F4570435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1A38CF-9A55-4886-AE02-295F3ECA2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BF1D33-8DD1-4A33-917A-62F48B44C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E46C-DA3C-4BE7-BF41-32BE56B7E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1FD8FA-1DC7-47A7-8697-A3CEB881D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3038DB-9EC6-4050-8A39-AD65CC5C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3C7E0D-135B-4910-9753-744C3AA3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6B2DC2-06F2-4EE6-8203-700FD8F5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DB5F63-C76E-4D04-B506-4D0408BFB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79C828-4AAF-407B-BE22-77D612D77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39D9FD-04D3-4E98-95E2-72F126AE7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3DE5F-03A9-452F-A891-9D894EB3B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9FF4F-F6CD-4253-8B61-53A3EEF6D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3DBDA-9A1D-41C2-A817-878EB30F7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D0D0-31DC-4A17-976F-D83BA1EAC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A9CB1-9749-4601-8C3D-072E3A5E8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694A3-27FE-49AE-9C51-D30CF27ED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22305-BBDB-4E3B-A060-AC4938241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D658E-4019-4347-82A8-59030AE9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1CFEC-0041-48D7-A148-C0477DA4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19384-4D55-4235-98F5-7BB0EEC0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E71A1-DFA6-4F58-B7A6-D097C230E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DA88D-8C50-4078-8A21-B88953021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9333F-970B-4548-93C3-4C4CD756A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CB53-7955-4BED-B9C8-AB446DBB1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AB41-591B-4092-8C4D-E888EE729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7D33-9C79-4133-89C0-3220261C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A500-D4E1-4BD3-B249-0071894C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74D5-ADBE-4480-8FC7-B7689D40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563DC-EE19-48EA-A5D0-E225D26875A0}" type="slidenum">
              <a:rPr b="0" lang="en-US" sz="1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E6B1D-B6A6-43D0-B862-7F2C54B5C5D0}" type="slidenum">
              <a:rPr b="0" lang="en-US" sz="1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CAB86-6DE7-48AB-B9A6-2074340DA96E}" type="slidenum">
              <a:rPr b="0" lang="en-US" sz="1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C801B-8D6D-4E27-893C-D72A6FD0CB33}" type="slidenum">
              <a:rPr b="0" lang="en-US" sz="1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792920" cy="15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Look at the picture and tell me What’s crops name I’ll take about????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2" name="Content Placeholder 7" descr="dualeo 4_dfvv.jpg"/>
          <p:cNvPicPr/>
          <p:nvPr/>
        </p:nvPicPr>
        <p:blipFill>
          <a:blip r:embed="rId1"/>
          <a:stretch/>
        </p:blipFill>
        <p:spPr>
          <a:xfrm>
            <a:off x="1979640" y="2322360"/>
            <a:ext cx="5616720" cy="3505320"/>
          </a:xfrm>
          <a:prstGeom prst="rect">
            <a:avLst/>
          </a:prstGeom>
          <a:ln w="0">
            <a:noFill/>
          </a:ln>
        </p:spPr>
      </p:pic>
      <p:sp>
        <p:nvSpPr>
          <p:cNvPr id="223" name="Oval Callout 8"/>
          <p:cNvSpPr/>
          <p:nvPr/>
        </p:nvSpPr>
        <p:spPr>
          <a:xfrm>
            <a:off x="6804000" y="2637000"/>
            <a:ext cx="1224000" cy="1800000"/>
          </a:xfrm>
          <a:prstGeom prst="wedgeEllipseCallout">
            <a:avLst>
              <a:gd name="adj1" fmla="val -108574"/>
              <a:gd name="adj2" fmla="val 52824"/>
            </a:avLst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????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c92b5"/>
                </a:solidFill>
                <a:latin typeface="Times New Roman"/>
                <a:ea typeface="Times New Roman"/>
              </a:rPr>
              <a:t>III. Planting techniques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182240" y="2205000"/>
            <a:ext cx="3894120" cy="39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. The soi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eanning the soi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ake to loosen soi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upply nutrient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Make holes in the plastic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9" name="Picture 3" descr="images (2).jpg"/>
          <p:cNvPicPr/>
          <p:nvPr/>
        </p:nvPicPr>
        <p:blipFill>
          <a:blip r:embed="rId1"/>
          <a:stretch/>
        </p:blipFill>
        <p:spPr>
          <a:xfrm>
            <a:off x="5435640" y="2349360"/>
            <a:ext cx="3111480" cy="3311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c92b5"/>
                </a:solidFill>
                <a:latin typeface="Times New Roman"/>
                <a:ea typeface="Times New Roman"/>
              </a:rPr>
              <a:t>III. Planting techniques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84000" y="2205000"/>
            <a:ext cx="4392360" cy="39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000000"/>
                </a:solidFill>
                <a:latin typeface="Times New Roman"/>
              </a:rPr>
              <a:t>2. Preparing the seed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 Soak the seeds in warm water around 70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C (from 2 to 3 hours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 Incubation from 1  to 2 day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2" name="Picture 3" descr="CAM00356.jpg"/>
          <p:cNvPicPr/>
          <p:nvPr/>
        </p:nvPicPr>
        <p:blipFill>
          <a:blip r:embed="rId1"/>
          <a:stretch/>
        </p:blipFill>
        <p:spPr>
          <a:xfrm>
            <a:off x="5003640" y="2276640"/>
            <a:ext cx="3961080" cy="3240000"/>
          </a:xfrm>
          <a:prstGeom prst="rect">
            <a:avLst/>
          </a:prstGeom>
          <a:ln w="0">
            <a:noFill/>
          </a:ln>
        </p:spPr>
      </p:pic>
      <p:sp>
        <p:nvSpPr>
          <p:cNvPr id="253" name="Title 1"/>
          <p:cNvSpPr/>
          <p:nvPr/>
        </p:nvSpPr>
        <p:spPr>
          <a:xfrm>
            <a:off x="4932360" y="5661000"/>
            <a:ext cx="39607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The seeds after incub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d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6560" y="62028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c92b5"/>
                </a:solidFill>
                <a:latin typeface="Times New Roman"/>
                <a:ea typeface="Times New Roman"/>
              </a:rPr>
              <a:t>III. Planting techniques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owing the seeds in the plastic bags (seeding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6" name="Picture 6" descr="images (3).jpg"/>
          <p:cNvPicPr/>
          <p:nvPr/>
        </p:nvPicPr>
        <p:blipFill>
          <a:blip r:embed="rId1"/>
          <a:stretch/>
        </p:blipFill>
        <p:spPr>
          <a:xfrm>
            <a:off x="2050920" y="3357720"/>
            <a:ext cx="5185080" cy="2743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c92b5"/>
                </a:solidFill>
                <a:latin typeface="Times New Roman"/>
                <a:ea typeface="Times New Roman"/>
              </a:rPr>
              <a:t>III. Planting techniques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37160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000000"/>
                </a:solidFill>
                <a:latin typeface="Times New Roman"/>
              </a:rPr>
              <a:t>3. Transpla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9" name="Picture 3" descr="images (4).jpg"/>
          <p:cNvPicPr/>
          <p:nvPr/>
        </p:nvPicPr>
        <p:blipFill>
          <a:blip r:embed="rId1"/>
          <a:stretch/>
        </p:blipFill>
        <p:spPr>
          <a:xfrm>
            <a:off x="2556000" y="2781360"/>
            <a:ext cx="3960720" cy="2566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c92b5"/>
                </a:solidFill>
                <a:latin typeface="Times New Roman"/>
                <a:ea typeface="Times New Roman"/>
              </a:rPr>
              <a:t>III. Planting techniques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4. Irrigate and supply fertiliz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2" name="Picture 3" descr="dualeo.jpg"/>
          <p:cNvPicPr/>
          <p:nvPr/>
        </p:nvPicPr>
        <p:blipFill>
          <a:blip r:embed="rId1"/>
          <a:stretch/>
        </p:blipFill>
        <p:spPr>
          <a:xfrm>
            <a:off x="1619280" y="2708280"/>
            <a:ext cx="5616720" cy="3097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617400"/>
            <a:ext cx="779292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c92b5"/>
                </a:solidFill>
                <a:latin typeface="Times New Roman"/>
                <a:ea typeface="Times New Roman"/>
              </a:rPr>
              <a:t>III. Planting techniques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13716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5. Prun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5" name="How to Prune Your Cucumber Plant - YouTube_4.mp4" descr=""/>
          <p:cNvPicPr/>
          <p:nvPr/>
        </p:nvPicPr>
        <p:blipFill>
          <a:blip r:embed="rId1"/>
          <a:stretch/>
        </p:blipFill>
        <p:spPr>
          <a:xfrm>
            <a:off x="971640" y="2286000"/>
            <a:ext cx="7129440" cy="3879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259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62" dur="1" fill="hold"/>
                                        <p:tgtEl>
                                          <p:spTgt spid="2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c92b5"/>
                </a:solidFill>
                <a:latin typeface="Times New Roman"/>
                <a:ea typeface="Times New Roman"/>
              </a:rPr>
              <a:t>III. Planting techniques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9640" y="2060280"/>
            <a:ext cx="48960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6. Popular proplems of Cucumb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ucumber beetl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Must be controlled because they transmit bacterial wilt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Control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548a"/>
                </a:solidFill>
                <a:latin typeface="Georgia"/>
              </a:rPr>
              <a:t>Synthetic insecticides</a:t>
            </a:r>
            <a:endParaRPr b="0" lang="en-US" sz="18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548a"/>
                </a:solidFill>
                <a:latin typeface="Georgia"/>
              </a:rPr>
              <a:t>Exclusion with row covers</a:t>
            </a:r>
            <a:endParaRPr b="0" lang="en-US" sz="1800" spc="-1" strike="noStrike">
              <a:solidFill>
                <a:srgbClr val="53548a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8" name="Picture 8" descr="C:\Documents and Settings\allarso1\My Documents\HORT 105\Pics\Cucumbers\cuc-beatle.jpg"/>
          <p:cNvPicPr/>
          <p:nvPr/>
        </p:nvPicPr>
        <p:blipFill>
          <a:blip r:embed="rId1"/>
          <a:stretch/>
        </p:blipFill>
        <p:spPr>
          <a:xfrm>
            <a:off x="5477040" y="2017800"/>
            <a:ext cx="314460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20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7" dur="2000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c92b5"/>
                </a:solidFill>
                <a:latin typeface="Times New Roman"/>
                <a:ea typeface="Times New Roman"/>
              </a:rPr>
              <a:t>III. Planting techniques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755280" y="2017800"/>
            <a:ext cx="5761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Downy mildew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Control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- Resistant Cultivar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- Chemical Contro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- Early Detection &amp; Forecast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- Biological Contro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1" name="Picture 3" descr="250px-Falscher_Mehltau.jpg"/>
          <p:cNvPicPr/>
          <p:nvPr/>
        </p:nvPicPr>
        <p:blipFill>
          <a:blip r:embed="rId1"/>
          <a:stretch/>
        </p:blipFill>
        <p:spPr>
          <a:xfrm>
            <a:off x="5724360" y="2276640"/>
            <a:ext cx="3011760" cy="3024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c92b5"/>
                </a:solidFill>
                <a:latin typeface="Times New Roman"/>
                <a:ea typeface="Times New Roman"/>
              </a:rPr>
              <a:t>III. Planting techniques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82692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oot rot, stem and wil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4" name="Picture 3" descr="upload_4e892760b47b3_113.191.253.23_www_agroatlas_ru___Cucurbitae_Fusarium_spp.jpg"/>
          <p:cNvPicPr/>
          <p:nvPr/>
        </p:nvPicPr>
        <p:blipFill>
          <a:blip r:embed="rId1"/>
          <a:stretch/>
        </p:blipFill>
        <p:spPr>
          <a:xfrm>
            <a:off x="5076720" y="2997360"/>
            <a:ext cx="3095640" cy="26002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4" descr="upload_4e8927965cbe4_113.191.253.23_www_public_iastate_edu___Melonmelon_html1.gif"/>
          <p:cNvPicPr/>
          <p:nvPr/>
        </p:nvPicPr>
        <p:blipFill>
          <a:blip r:embed="rId2"/>
          <a:stretch/>
        </p:blipFill>
        <p:spPr>
          <a:xfrm>
            <a:off x="1258920" y="2997360"/>
            <a:ext cx="3168720" cy="2663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c92b5"/>
                </a:solidFill>
                <a:latin typeface="Times New Roman"/>
                <a:ea typeface="Times New Roman"/>
              </a:rPr>
              <a:t>III. Planting techniques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oot rot, stem and wilt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2440" indent="-514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ntrol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2440" indent="-514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 Crop rota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2440" indent="-514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 Water and fertilizer supply are optima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2440" indent="-514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 Steam soil before transpla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wipe dir="d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5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1" dur="20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617040"/>
            <a:ext cx="9144000" cy="3243240"/>
          </a:xfrm>
          <a:prstGeom prst="rect">
            <a:avLst/>
          </a:prstGeom>
          <a:solidFill>
            <a:srgbClr val="8588a2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ucumber</a:t>
            </a:r>
            <a:r>
              <a:rPr b="1" lang="en-US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</a:t>
            </a:r>
            <a:r>
              <a:rPr b="1" i="1" lang="en-US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ucumis sativus</a:t>
            </a:r>
            <a:r>
              <a:rPr b="1" lang="en-US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182600" y="4581000"/>
            <a:ext cx="7772400" cy="15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ương Đông Phươ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õ Công Viện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ạnh Quốc Sơ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c92b5"/>
                </a:solidFill>
                <a:latin typeface="Times New Roman"/>
                <a:ea typeface="Times New Roman"/>
              </a:rPr>
              <a:t>IV. Harvesting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79" name="ClipArt Placeholder 5" descr="Dua_leo.jpg"/>
          <p:cNvPicPr/>
          <p:nvPr/>
        </p:nvPicPr>
        <p:blipFill>
          <a:blip r:embed="rId1"/>
          <a:stretch/>
        </p:blipFill>
        <p:spPr>
          <a:xfrm>
            <a:off x="1544760" y="2017800"/>
            <a:ext cx="3085920" cy="411480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ick cucumbers every da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ze to harvest depends on us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wipe dir="d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8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42920" y="62028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c92b5"/>
                </a:solidFill>
                <a:latin typeface="Times New Roman"/>
                <a:ea typeface="Times New Roman"/>
              </a:rPr>
              <a:t>IV. Harvesting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39640" y="2017800"/>
            <a:ext cx="4392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ick before the seeds become har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Fruit that contains immature seed is preferred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283" name="Picture 4" descr="Cách làm kim chi Hàn Quốc bằng dưa leo1.jpg"/>
          <p:cNvPicPr/>
          <p:nvPr/>
        </p:nvPicPr>
        <p:blipFill>
          <a:blip r:embed="rId1"/>
          <a:stretch/>
        </p:blipFill>
        <p:spPr>
          <a:xfrm>
            <a:off x="5148360" y="2276640"/>
            <a:ext cx="3995640" cy="3762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c92b5"/>
                </a:solidFill>
                <a:latin typeface="Times New Roman"/>
                <a:ea typeface="Times New Roman"/>
              </a:rPr>
              <a:t>IV. Harvesting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116000" y="2017800"/>
            <a:ext cx="417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o not allow cucumbers to turn yellow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Yellow fruit are overly matur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Often have a bitter taste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  <p:pic>
        <p:nvPicPr>
          <p:cNvPr id="286" name="Picture 3" descr="DuaLeo-15.jpg"/>
          <p:cNvPicPr/>
          <p:nvPr/>
        </p:nvPicPr>
        <p:blipFill>
          <a:blip r:embed="rId1"/>
          <a:stretch/>
        </p:blipFill>
        <p:spPr>
          <a:xfrm>
            <a:off x="5364000" y="1989000"/>
            <a:ext cx="3343320" cy="4056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99720" y="65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c92b5"/>
                </a:solidFill>
                <a:latin typeface="Times New Roman"/>
                <a:ea typeface="Times New Roman"/>
              </a:rPr>
              <a:t>V. Using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179280" y="2276640"/>
            <a:ext cx="417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. Food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resh cucumb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89" name="Picture 4" descr="005.JPG"/>
          <p:cNvPicPr/>
          <p:nvPr/>
        </p:nvPicPr>
        <p:blipFill>
          <a:blip r:embed="rId1"/>
          <a:stretch/>
        </p:blipFill>
        <p:spPr>
          <a:xfrm>
            <a:off x="3564000" y="1989000"/>
            <a:ext cx="5580000" cy="4535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9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15640" y="475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c92b5"/>
                </a:solidFill>
                <a:latin typeface="Times New Roman"/>
                <a:ea typeface="Times New Roman"/>
              </a:rPr>
              <a:t>V. Using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75564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Chilled Cucumber Soup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92" name="Picture 3" descr="KOREAN Cucumber Soup.JPG"/>
          <p:cNvPicPr/>
          <p:nvPr/>
        </p:nvPicPr>
        <p:blipFill>
          <a:blip r:embed="rId1"/>
          <a:stretch/>
        </p:blipFill>
        <p:spPr>
          <a:xfrm>
            <a:off x="1763640" y="2565360"/>
            <a:ext cx="5329440" cy="3816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6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c92b5"/>
                </a:solidFill>
                <a:latin typeface="Times New Roman"/>
                <a:ea typeface="Times New Roman"/>
              </a:rPr>
              <a:t>V. Using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1371600" y="1915920"/>
            <a:ext cx="7772400" cy="40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ucumber salab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95" name="Picture 3" descr="images (1).jpg"/>
          <p:cNvPicPr/>
          <p:nvPr/>
        </p:nvPicPr>
        <p:blipFill>
          <a:blip r:embed="rId1"/>
          <a:stretch/>
        </p:blipFill>
        <p:spPr>
          <a:xfrm>
            <a:off x="2124000" y="2565360"/>
            <a:ext cx="4969080" cy="3527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8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c92b5"/>
                </a:solidFill>
                <a:latin typeface="Times New Roman"/>
                <a:ea typeface="Times New Roman"/>
              </a:rPr>
              <a:t>V. Using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000000"/>
                </a:solidFill>
                <a:latin typeface="Times New Roman"/>
              </a:rPr>
              <a:t>2. Cosmetic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98" name="Picture 4" descr="tải xuống (2).jpg"/>
          <p:cNvPicPr/>
          <p:nvPr/>
        </p:nvPicPr>
        <p:blipFill>
          <a:blip r:embed="rId1"/>
          <a:stretch/>
        </p:blipFill>
        <p:spPr>
          <a:xfrm>
            <a:off x="5076720" y="476280"/>
            <a:ext cx="3583080" cy="26478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6" descr="images (3).jpg"/>
          <p:cNvPicPr/>
          <p:nvPr/>
        </p:nvPicPr>
        <p:blipFill>
          <a:blip r:embed="rId2"/>
          <a:stretch/>
        </p:blipFill>
        <p:spPr>
          <a:xfrm>
            <a:off x="611280" y="3357720"/>
            <a:ext cx="3168720" cy="29764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8" descr="images (5).jpg"/>
          <p:cNvPicPr/>
          <p:nvPr/>
        </p:nvPicPr>
        <p:blipFill>
          <a:blip r:embed="rId3"/>
          <a:stretch/>
        </p:blipFill>
        <p:spPr>
          <a:xfrm>
            <a:off x="5148360" y="3429000"/>
            <a:ext cx="3459240" cy="2736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5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c92b5"/>
                </a:solidFill>
                <a:latin typeface="Times New Roman"/>
                <a:ea typeface="Times New Roman"/>
              </a:rPr>
              <a:t>V. Using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02" name="Content Placeholder 5" descr="20120606150750_trangda.jpg"/>
          <p:cNvPicPr/>
          <p:nvPr/>
        </p:nvPicPr>
        <p:blipFill>
          <a:blip r:embed="rId1"/>
          <a:stretch/>
        </p:blipFill>
        <p:spPr>
          <a:xfrm>
            <a:off x="1523880" y="2379600"/>
            <a:ext cx="6096240" cy="406404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6" descr="tải xuống (1).jpg"/>
          <p:cNvPicPr/>
          <p:nvPr/>
        </p:nvPicPr>
        <p:blipFill>
          <a:blip r:embed="rId2"/>
          <a:stretch/>
        </p:blipFill>
        <p:spPr>
          <a:xfrm>
            <a:off x="3851280" y="2133720"/>
            <a:ext cx="1441440" cy="3382920"/>
          </a:xfrm>
          <a:prstGeom prst="rect">
            <a:avLst/>
          </a:prstGeom>
          <a:ln w="0">
            <a:noFill/>
          </a:ln>
        </p:spPr>
      </p:pic>
      <p:sp>
        <p:nvSpPr>
          <p:cNvPr id="304" name="Title 1"/>
          <p:cNvSpPr/>
          <p:nvPr/>
        </p:nvSpPr>
        <p:spPr>
          <a:xfrm>
            <a:off x="1619280" y="5661000"/>
            <a:ext cx="288144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for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Title 1"/>
          <p:cNvSpPr/>
          <p:nvPr/>
        </p:nvSpPr>
        <p:spPr>
          <a:xfrm>
            <a:off x="5219640" y="5300640"/>
            <a:ext cx="237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d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50560" y="617040"/>
            <a:ext cx="8692920" cy="216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he end</a:t>
            </a:r>
            <a:endParaRPr b="0" lang="en-US" sz="7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1182600" y="3645000"/>
            <a:ext cx="7772400" cy="24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eorgia"/>
              </a:rPr>
              <a:t>Thank for your listening!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wipe dir="d"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9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Content</a:t>
            </a:r>
            <a:endParaRPr b="0" lang="en-US" sz="8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187280" y="2637000"/>
            <a:ext cx="7772400" cy="34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c92b5"/>
                </a:solidFill>
                <a:latin typeface="Georgia"/>
              </a:rPr>
              <a:t>I. Introduction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c92b5"/>
                </a:solidFill>
                <a:latin typeface="Georgia"/>
              </a:rPr>
              <a:t>II. Characteristics of cucumber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c92b5"/>
                </a:solidFill>
                <a:latin typeface="Georgia"/>
              </a:rPr>
              <a:t>III. Planting techniques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c92b5"/>
                </a:solidFill>
                <a:latin typeface="Georgia"/>
              </a:rPr>
              <a:t>IV. Harvesting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c92b5"/>
                </a:solidFill>
                <a:latin typeface="Georgia"/>
              </a:rPr>
              <a:t>V. Using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wipe dir="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50720" y="475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c92b5"/>
                </a:solidFill>
                <a:latin typeface="Times New Roman"/>
                <a:ea typeface="Times New Roman"/>
              </a:rPr>
              <a:t>I. Introduction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ucumbers is member of the genus: 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Cucumi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riginated in Asia or Afric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First cultivated in India around 3000 years ago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Originated in mountains of northern India 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Were cultivated by the ancient Greeks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p:transition spd="slow">
    <p:wipe dir="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c92b5"/>
                </a:solidFill>
                <a:latin typeface="Times New Roman"/>
                <a:ea typeface="Times New Roman"/>
              </a:rPr>
              <a:t>II. Characteristics of cucumber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arm season vegetabl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Do not tolerate frost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Cucumbers LOVE water but not subject to flooding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p:transition spd="slow">
    <p:wipe dir="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c92b5"/>
                </a:solidFill>
                <a:latin typeface="Times New Roman"/>
                <a:ea typeface="Times New Roman"/>
              </a:rPr>
              <a:t>II. Characteristics of cucumber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187280" y="2276280"/>
            <a:ext cx="730584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tem: Climbing plant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4" name="Content Placeholder 2"/>
          <p:cNvSpPr/>
          <p:nvPr/>
        </p:nvSpPr>
        <p:spPr>
          <a:xfrm>
            <a:off x="1187280" y="3213000"/>
            <a:ext cx="4824720" cy="29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2a874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endril: the thin stem of a climbing plant that attaches to walls, fences, etc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5" name="Picture 5" descr="100620cu.jpg"/>
          <p:cNvPicPr/>
          <p:nvPr/>
        </p:nvPicPr>
        <p:blipFill>
          <a:blip r:embed="rId1"/>
          <a:stretch/>
        </p:blipFill>
        <p:spPr>
          <a:xfrm>
            <a:off x="5830920" y="3429000"/>
            <a:ext cx="3313080" cy="2990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c92b5"/>
                </a:solidFill>
                <a:latin typeface="Times New Roman"/>
                <a:ea typeface="Times New Roman"/>
              </a:rPr>
              <a:t>II. Characteristics of cucumber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182600" y="2017440"/>
            <a:ext cx="777240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lowers: Separate male and female flower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8" name="Picture 5" descr="tải xuống.jpg"/>
          <p:cNvPicPr/>
          <p:nvPr/>
        </p:nvPicPr>
        <p:blipFill>
          <a:blip r:embed="rId1"/>
          <a:stretch/>
        </p:blipFill>
        <p:spPr>
          <a:xfrm>
            <a:off x="1835280" y="2997360"/>
            <a:ext cx="5094000" cy="3860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c92b5"/>
                </a:solidFill>
                <a:latin typeface="Times New Roman"/>
                <a:ea typeface="Times New Roman"/>
              </a:rPr>
              <a:t>II. Characteristics of cucumber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equire bee pollina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1" name="Picture 3" descr="images.jpg"/>
          <p:cNvPicPr/>
          <p:nvPr/>
        </p:nvPicPr>
        <p:blipFill>
          <a:blip r:embed="rId1"/>
          <a:stretch/>
        </p:blipFill>
        <p:spPr>
          <a:xfrm>
            <a:off x="1979640" y="2852640"/>
            <a:ext cx="5329080" cy="3554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c92b5"/>
                </a:solidFill>
                <a:latin typeface="Times New Roman"/>
                <a:ea typeface="Times New Roman"/>
              </a:rPr>
              <a:t>II. Characteristics of cucumber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9000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ruits: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mooth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4" name="Picture 3" descr="images (1).jpg"/>
          <p:cNvPicPr/>
          <p:nvPr/>
        </p:nvPicPr>
        <p:blipFill>
          <a:blip r:embed="rId1"/>
          <a:stretch/>
        </p:blipFill>
        <p:spPr>
          <a:xfrm>
            <a:off x="5076720" y="3141720"/>
            <a:ext cx="2970360" cy="24480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" descr="tải xuống (1).jpg"/>
          <p:cNvPicPr/>
          <p:nvPr/>
        </p:nvPicPr>
        <p:blipFill>
          <a:blip r:embed="rId2"/>
          <a:stretch/>
        </p:blipFill>
        <p:spPr>
          <a:xfrm>
            <a:off x="1403280" y="3213000"/>
            <a:ext cx="3043440" cy="2592360"/>
          </a:xfrm>
          <a:prstGeom prst="rect">
            <a:avLst/>
          </a:prstGeom>
          <a:ln w="0">
            <a:noFill/>
          </a:ln>
        </p:spPr>
      </p:pic>
      <p:sp>
        <p:nvSpPr>
          <p:cNvPr id="246" name="Title 1"/>
          <p:cNvSpPr/>
          <p:nvPr/>
        </p:nvSpPr>
        <p:spPr>
          <a:xfrm>
            <a:off x="5867280" y="2276640"/>
            <a:ext cx="2433600" cy="9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ar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d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6T18:12:58Z</dcterms:created>
  <dc:creator>Eric J. Menzel</dc:creator>
  <dc:description/>
  <dc:language>en-US</dc:language>
  <cp:lastModifiedBy>SenSoi</cp:lastModifiedBy>
  <dcterms:modified xsi:type="dcterms:W3CDTF">2014-06-12T03:36:22Z</dcterms:modified>
  <cp:revision>91</cp:revision>
  <dc:subject/>
  <dc:title>Cucumber (Cucumis sativus)</dc:title>
</cp:coreProperties>
</file>